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9.wmf" ContentType="image/x-wmf"/>
  <Override PartName="/ppt/media/image14.jpeg" ContentType="image/jpeg"/>
  <Override PartName="/ppt/media/image20.wmf" ContentType="image/x-wmf"/>
  <Override PartName="/ppt/media/image18.wmf" ContentType="image/x-wmf"/>
  <Override PartName="/ppt/media/image16.png" ContentType="image/png"/>
  <Override PartName="/ppt/media/image15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Md B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429EC33F-07A8-4B64-8949-04A9FFB6B7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or el papel de la innovacion sobre productividad y la competitividad de las empresas y el crecimiento de los paises. Por nuestro cambio en la percepcion de la influencia de la ciencia en la innov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sar rapidamente a las transparencias de instrumentos y polít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EE8-A1A3-4DE5-A29A-E174FD74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7D7-ABA9-4013-B5D0-CAC39BC2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513-50DC-4E78-8A1C-6ADF4AC6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997-30A6-4AA0-96AA-85B58008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BE5A-2E81-4F6A-B326-D7789766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CEC2-9BED-4EE8-8087-E0397E92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70D7-C232-4A47-8FD6-048B2A11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FCB-82BA-4277-A628-233BC833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121-2E4A-494A-8F0C-5C1ACE5E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F12-97F7-475D-AD63-D2CBD0C4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D2F-717D-4C44-88CA-2DD9E604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FC2-4D87-4F5B-9D39-39C1017B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Md B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Futura Md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Futura Md B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Futura Md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Futura Md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Futura Md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2135-761A-42CF-8D42-FECE4C4C9B8D}" type="slidenum">
              <a:rPr b="0" lang="es-ES_tradnl" sz="1400" spc="-1" strike="noStrike">
                <a:solidFill>
                  <a:srgbClr val="000000"/>
                </a:solidFill>
                <a:latin typeface="Futura Md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14480" y="0"/>
            <a:ext cx="876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8240" y="6477120"/>
            <a:ext cx="838224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b2b2b2"/>
                </a:solidFill>
                <a:latin typeface="Verdana"/>
              </a:rPr>
              <a:t>INGENIO - INSTITUTO DE GESTIÓN DE LA INNOVACIÓN Y DEL CONOCIMIEN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2120" y="64771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2120" y="6400800"/>
            <a:ext cx="838188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-88920" y="5676840"/>
            <a:ext cx="851040" cy="11048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-76320" y="76320"/>
            <a:ext cx="82404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ine.es/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1916280"/>
            <a:ext cx="885672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 Narrow"/>
              </a:rPr>
              <a:t>Repensando el Papel de las Universidades en REGIONES de BAJA CAPACIDAD de ABSORCION </a:t>
            </a: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87640" y="5084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Dr. Ignacio Fernández de Lu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16000" y="333360"/>
            <a:ext cx="6913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305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cc6600"/>
                </a:solidFill>
                <a:latin typeface="Arial Narrow"/>
              </a:rPr>
              <a:t> </a:t>
            </a:r>
            <a:r>
              <a:rPr b="1" lang="es-ES" sz="2800" spc="-1" strike="noStrike">
                <a:solidFill>
                  <a:srgbClr val="cc6600"/>
                </a:solidFill>
                <a:latin typeface="Arial Narrow"/>
              </a:rPr>
              <a:t>CARACTERIZACIÓN DE UN TERRITORIO DE BAJA CAPACIDAD DE ABSORCIÓN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2060640"/>
            <a:ext cx="8209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ajos niveles de formación en la población ocup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suficientes niveles de gasto de I+D, sobre todo en las empre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trones de innovación de las empre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27320" y="38088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cc6600"/>
                </a:solidFill>
                <a:latin typeface="Arial"/>
              </a:rPr>
              <a:t>POBLACIÓN UNIVERSITARIA OCUPADA (1994-200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1524240" cy="115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2556000" y="1773360"/>
          <a:ext cx="6408720" cy="3527280"/>
        </p:xfrm>
        <a:graphic>
          <a:graphicData uri="http://schemas.openxmlformats.org/drawingml/2006/table">
            <a:tbl>
              <a:tblPr/>
              <a:tblGrid>
                <a:gridCol w="1993680"/>
                <a:gridCol w="730440"/>
                <a:gridCol w="804600"/>
                <a:gridCol w="792360"/>
                <a:gridCol w="744480"/>
                <a:gridCol w="652320"/>
                <a:gridCol w="690840"/>
              </a:tblGrid>
              <a:tr h="78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SECT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Universitarios ocupados / Total ocupados 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% Universitarios ocupados CV en relación al de Españ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CV 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CV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España 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España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Agricul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0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5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0,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1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3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20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Energ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9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6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9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16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4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2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Ind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2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5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3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7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7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9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Constru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1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4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1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1,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7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15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Servicios ve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5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11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7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12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7,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10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Servicios no ve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22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32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23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29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7,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9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5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11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7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12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7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"/>
                        </a:rPr>
                        <a:t>10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ente: INE, Mas, Pérez, Serrano, Soler y Uriel (20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324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1" lang="es-ES" sz="2800" spc="-1" strike="noStrike">
                <a:solidFill>
                  <a:srgbClr val="cc6600"/>
                </a:solidFill>
                <a:latin typeface="Futura Md BT"/>
              </a:rPr>
              <a:t>Estructura del gasto en actividades de I+D respecto al PIB en 2003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68320" y="1127160"/>
          <a:ext cx="7175520" cy="506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1127160"/>
                    <a:ext cx="717552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82692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Fuente: EURO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68440" y="440532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39720" y="314964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32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6600"/>
                </a:solidFill>
                <a:latin typeface="Arial Narrow"/>
              </a:rPr>
              <a:t>Distribución de los recursos dedicados por las empresas a innovación tecnológica en 2004 por Comunidades Autónomas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8066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Pequeños tamaño de las empresas- Faltan grandes empresas tractoras.</a:t>
            </a: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Sectores productivos con baja utilización de la    Ciencia. </a:t>
            </a: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Baja Cooperación entre los elementos del SI</a:t>
            </a: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692280"/>
            <a:ext cx="70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6600"/>
                </a:solidFill>
                <a:latin typeface="Arial Narrow"/>
              </a:rPr>
              <a:t>CARACTERIZACIÓN DE UN TERRITORIO DE BAJA CAPACIDAD DE ABSORCIÓ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1280" y="0"/>
            <a:ext cx="885672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Arial Narrow"/>
              </a:rPr>
              <a:t>DISTRIBUCIÓN DE  LOS  ESTABLECIMIENTOS INDUSTRI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 Narrow"/>
              </a:rPr>
              <a:t>      </a:t>
            </a:r>
            <a:r>
              <a:rPr b="1" lang="en-US" sz="2400" spc="-1" strike="noStrike">
                <a:solidFill>
                  <a:srgbClr val="cc6600"/>
                </a:solidFill>
                <a:latin typeface="Arial Narrow"/>
              </a:rPr>
              <a:t>EN LA C.V. POR NÚMERO DE TRABAJADORES (2006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440" y="6016680"/>
            <a:ext cx="43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entury Gothic"/>
              </a:rPr>
              <a:t>Fuente INE (2006) y elaboración prop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03280" y="1773360"/>
          <a:ext cx="7056360" cy="3333600"/>
        </p:xfrm>
        <a:graphic>
          <a:graphicData uri="http://schemas.openxmlformats.org/drawingml/2006/table">
            <a:tbl>
              <a:tblPr/>
              <a:tblGrid>
                <a:gridCol w="1154160"/>
                <a:gridCol w="981000"/>
                <a:gridCol w="1133640"/>
                <a:gridCol w="1154160"/>
                <a:gridCol w="1154160"/>
                <a:gridCol w="147924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º C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ª Españ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Españ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CV/Españ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7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1-6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3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6-19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7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20-49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50-99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100-199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200-999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16000" y="549360"/>
            <a:ext cx="6400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cc6600"/>
                </a:solidFill>
                <a:latin typeface="Arial"/>
              </a:rPr>
              <a:t>IMPORTANCIA RELATIVA DE LOS PRINCIPALES SECTORES INDUSTRIALES EN LA CV (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48840" y="5877000"/>
            <a:ext cx="328824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Fuente: INE, 2004 y elaboración prop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8000" y="1336680"/>
          <a:ext cx="8928000" cy="424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336680"/>
                    <a:ext cx="892800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685800" y="130320"/>
            <a:ext cx="8534520" cy="6422760"/>
            <a:chOff x="685800" y="130320"/>
            <a:chExt cx="8534520" cy="6422760"/>
          </a:xfrm>
        </p:grpSpPr>
        <p:graphicFrame>
          <p:nvGraphicFramePr>
            <p:cNvPr id="102" name=""/>
            <p:cNvGraphicFramePr/>
            <p:nvPr/>
          </p:nvGraphicFramePr>
          <p:xfrm>
            <a:off x="685800" y="130320"/>
            <a:ext cx="8534520" cy="6422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30320"/>
                      <a:ext cx="8534520" cy="642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"/>
            <p:cNvSpPr/>
            <p:nvPr/>
          </p:nvSpPr>
          <p:spPr>
            <a:xfrm>
              <a:off x="990720" y="152280"/>
              <a:ext cx="7848360" cy="7621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6600"/>
                  </a:solidFill>
                  <a:latin typeface="Verdana"/>
                </a:rPr>
                <a:t>RELACIÓN ENTRE EL EMPLEO EN SECTORES DE LA ALTA TECNOLOGÍ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6600"/>
                  </a:solidFill>
                  <a:latin typeface="Verdana"/>
                </a:rPr>
                <a:t>Y LA RENTA PER CÁPITA EN DIFERENTES REGIONES EUROPE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90720" y="152280"/>
              <a:ext cx="7848360" cy="3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914400"/>
              <a:ext cx="7848360" cy="3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4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0"/>
            <a:ext cx="86407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1" lang="es-ES" sz="2000" spc="-1" strike="noStrike">
                <a:solidFill>
                  <a:srgbClr val="cc6600"/>
                </a:solidFill>
                <a:latin typeface="Futura Md BT"/>
              </a:rPr>
              <a:t>PORCENTAJE DE EMPRESAS EIN EN LA UE QUE HAN COOPERADO EN 1998-2000 EN ACTIVIDADES DE INNOV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5119920" cy="49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4360" y="189000"/>
            <a:ext cx="820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 Narrow"/>
              </a:rPr>
              <a:t>¿EXISTEN SISTEMAS DE INNOVACIÓN EN ESOS TERRITORI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987560"/>
            <a:ext cx="82090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Confundir elementos y estructuras con Sistemas: Baja relación entre los elem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Desarrollo divergente de las universidades y las empre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Características de la innovación en las empresas  (Paten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8712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Investigación, innovación, capacidad de absorción: conceptos ambiguos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  <a:p>
            <a:pPr marL="88920" indent="-889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Ciencia e innovación: relación compleja y evolutiva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  <a:p>
            <a:pPr marL="88920" indent="-889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Influencia de esta evolución  en las Políticas de Ciencia e Innovación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  <a:p>
            <a:pPr marL="88920" indent="-889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Caracterización de un territorio de baja capacidad de absorción.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  <a:p>
            <a:pPr marL="88920" indent="-889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Repensar las nuevas orientaciones en las Políticas de Ciencia e Innovación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  <a:p>
            <a:pPr marL="889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  <a:p>
            <a:pPr marL="889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  <a:p>
            <a:pPr marL="889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  <a:p>
            <a:pPr marL="889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7" name=""/>
          <p:cNvSpPr/>
          <p:nvPr/>
        </p:nvSpPr>
        <p:spPr>
          <a:xfrm>
            <a:off x="746280" y="590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2049480" y="404640"/>
            <a:ext cx="6541920" cy="5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cc6600"/>
                </a:solidFill>
                <a:latin typeface="Arial Narrow"/>
              </a:rPr>
              <a:t>INDICE</a:t>
            </a:r>
            <a:endParaRPr b="0" lang="en-US" sz="32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1916280"/>
            <a:ext cx="824400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35568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 Narrow"/>
              </a:rPr>
              <a:t>La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cc6600"/>
                </a:solidFill>
                <a:latin typeface="Arial Narrow"/>
              </a:rPr>
              <a:t>“NOVEDAD” en los MECANISMOS en las 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35568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6600"/>
                </a:solidFill>
                <a:latin typeface="Arial Narrow"/>
              </a:rPr>
              <a:t>TIPO DE MECANISMOS PREFERIDOS EN LA 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4360" y="1058760"/>
          <a:ext cx="7775280" cy="546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8760"/>
                    <a:ext cx="7775280" cy="54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476360" y="1844640"/>
            <a:ext cx="295128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64000" y="1916280"/>
            <a:ext cx="2592360" cy="165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1700280"/>
            <a:ext cx="8210520" cy="617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400" y="2382840"/>
            <a:ext cx="1695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ormalizar la oferta del C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844640"/>
            <a:ext cx="19558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Objetivos de los MOI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1700280"/>
            <a:ext cx="8185320" cy="367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6720" y="2287440"/>
            <a:ext cx="820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49480" y="1835280"/>
            <a:ext cx="14432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Administración</a:t>
            </a:r>
            <a:r>
              <a:rPr b="1" lang="en-US" sz="1600" spc="-1" strike="noStrike">
                <a:solidFill>
                  <a:srgbClr val="33cc33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41720" y="1835280"/>
            <a:ext cx="10922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Empresa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71640" y="1773360"/>
            <a:ext cx="0" cy="366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3440" y="1698480"/>
            <a:ext cx="0" cy="365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08880" y="1709640"/>
            <a:ext cx="0" cy="365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36760" y="2382840"/>
            <a:ext cx="762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18240" y="2314440"/>
            <a:ext cx="96192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a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4960" y="3002040"/>
            <a:ext cx="203832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mpulsar la TRI 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avorecer la obtención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 resultados aplic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3002040"/>
            <a:ext cx="190188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avorable al fomento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 la interrelació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ntre los elemento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 SN 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64160" y="3002040"/>
            <a:ext cx="19209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ispuestas  a una política de renovació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ecnoló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50200" y="3002040"/>
            <a:ext cx="8776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4199040"/>
            <a:ext cx="214308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ejorar el cono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la comunicación entre los diferentes elementos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 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1800" y="4199040"/>
            <a:ext cx="196056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ceptiva      a      la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mandas      de   la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ciedad  en 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  calidad  de  vida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y bienestar   social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27720" y="4199040"/>
            <a:ext cx="2133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 estrateg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lobales a medio plazo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93040" y="4199040"/>
            <a:ext cx="11206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gr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n el   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560" y="1682640"/>
            <a:ext cx="0" cy="365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1520" y="1835280"/>
            <a:ext cx="424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CPI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808080"/>
                </a:solidFill>
                <a:latin typeface="Arial Narro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37360" y="2306520"/>
            <a:ext cx="762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78800" y="3002040"/>
            <a:ext cx="11206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or lo menos déb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31080" y="4199040"/>
            <a:ext cx="892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d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4160" y="2298600"/>
            <a:ext cx="19209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ecesidades d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lución de problemas concre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9880" y="1587600"/>
            <a:ext cx="13636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Característic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     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del  SI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9480" y="0"/>
            <a:ext cx="8763120" cy="1433160"/>
            <a:chOff x="609480" y="0"/>
            <a:chExt cx="8763120" cy="1433160"/>
          </a:xfrm>
        </p:grpSpPr>
        <p:sp>
          <p:nvSpPr>
            <p:cNvPr id="147" name=""/>
            <p:cNvSpPr/>
            <p:nvPr/>
          </p:nvSpPr>
          <p:spPr>
            <a:xfrm>
              <a:off x="609480" y="0"/>
              <a:ext cx="876312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Arial Narrow"/>
                </a:rPr>
                <a:t> </a:t>
              </a:r>
              <a:r>
                <a:rPr b="1" lang="en-US" sz="3200" spc="-1" strike="noStrike">
                  <a:solidFill>
                    <a:srgbClr val="cc6600"/>
                  </a:solidFill>
                  <a:latin typeface="Arial Narrow"/>
                </a:rPr>
                <a:t>M</a:t>
              </a:r>
              <a:r>
                <a:rPr b="1" lang="en-US" sz="2800" spc="-1" strike="noStrike">
                  <a:solidFill>
                    <a:srgbClr val="cc6600"/>
                  </a:solidFill>
                  <a:latin typeface="Arial Narrow"/>
                </a:rPr>
                <a:t>ECANISMOS OPERATIVOS  DE INTERRELAC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6600"/>
                  </a:solidFill>
                  <a:latin typeface="Arial Narrow"/>
                </a:rPr>
                <a:t>      </a:t>
              </a:r>
              <a:r>
                <a:rPr b="1" lang="en-US" sz="2400" spc="-1" strike="noStrike">
                  <a:solidFill>
                    <a:srgbClr val="cc6600"/>
                  </a:solidFill>
                  <a:latin typeface="Arial Narrow"/>
                </a:rPr>
                <a:t>ACTITUD DE LOS ELEMENTOS DEL SI Y CARACTERÍSTICAS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6600"/>
                  </a:solidFill>
                  <a:latin typeface="Arial Narrow"/>
                </a:rPr>
                <a:t>  </a:t>
              </a:r>
              <a:r>
                <a:rPr b="1" lang="en-US" sz="2400" spc="-1" strike="noStrike">
                  <a:solidFill>
                    <a:srgbClr val="cc6600"/>
                  </a:solidFill>
                  <a:latin typeface="Arial Narrow"/>
                </a:rPr>
                <a:t>DEL MIS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3200" y="501480"/>
              <a:ext cx="7359840" cy="0"/>
            </a:xfrm>
            <a:prstGeom prst="line">
              <a:avLst/>
            </a:prstGeom>
            <a:ln w="475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348000" y="5805360"/>
            <a:ext cx="17352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992160" y="1557360"/>
            <a:ext cx="8151840" cy="3939840"/>
            <a:chOff x="992160" y="1557360"/>
            <a:chExt cx="8151840" cy="3939840"/>
          </a:xfrm>
        </p:grpSpPr>
        <p:sp>
          <p:nvSpPr>
            <p:cNvPr id="151" name=""/>
            <p:cNvSpPr/>
            <p:nvPr/>
          </p:nvSpPr>
          <p:spPr>
            <a:xfrm>
              <a:off x="992160" y="1569960"/>
              <a:ext cx="8001000" cy="685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41280" y="2362320"/>
              <a:ext cx="188460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Formalizar la oferta del CP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20840" y="1752480"/>
              <a:ext cx="18050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 Narrow"/>
                </a:rPr>
                <a:t>Objetivos de los MOI</a:t>
              </a:r>
              <a:r>
                <a:rPr b="1" lang="en-US" sz="1600" spc="-1" strike="noStrike">
                  <a:solidFill>
                    <a:srgbClr val="808080"/>
                  </a:solidFill>
                  <a:latin typeface="Arial Narrow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04760" y="1582920"/>
              <a:ext cx="7975800" cy="3784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93600" y="2255760"/>
              <a:ext cx="799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1600200"/>
              <a:ext cx="2262240" cy="6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 Narrow"/>
                </a:rPr>
                <a:t> </a:t>
              </a:r>
              <a:r>
                <a:rPr b="1" lang="en-US" sz="1600" spc="-1" strike="noStrike">
                  <a:solidFill>
                    <a:srgbClr val="ffff00"/>
                  </a:solidFill>
                  <a:latin typeface="Arial Narrow"/>
                </a:rPr>
                <a:t>Políticas Científica y de relaciones con el entorno socioeconómico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35640" y="1676520"/>
              <a:ext cx="20336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 Narrow"/>
                </a:rPr>
                <a:t> </a:t>
              </a:r>
              <a:r>
                <a:rPr b="1" lang="en-US" sz="1600" spc="-1" strike="noStrike">
                  <a:solidFill>
                    <a:srgbClr val="ffff00"/>
                  </a:solidFill>
                  <a:latin typeface="Arial Narrow"/>
                </a:rPr>
                <a:t>Estructura de Gestión</a:t>
              </a:r>
              <a:r>
                <a:rPr b="1" lang="en-US" sz="1600" spc="-1" strike="noStrike">
                  <a:solidFill>
                    <a:srgbClr val="ff9933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 Narrow"/>
                </a:rPr>
                <a:t>         </a:t>
              </a:r>
              <a:r>
                <a:rPr b="1" lang="en-US" sz="1600" spc="-1" strike="noStrike">
                  <a:solidFill>
                    <a:srgbClr val="ffff00"/>
                  </a:solidFill>
                  <a:latin typeface="Arial Narrow"/>
                </a:rPr>
                <a:t>de la  TRI</a:t>
              </a:r>
              <a:r>
                <a:rPr b="1" lang="en-US" sz="1600" spc="-1" strike="noStrike">
                  <a:solidFill>
                    <a:srgbClr val="808080"/>
                  </a:solidFill>
                  <a:latin typeface="Arial Narrow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67560" y="1676520"/>
              <a:ext cx="1349280" cy="6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 Narrow"/>
                </a:rPr>
                <a:t>  </a:t>
              </a:r>
              <a:r>
                <a:rPr b="1" lang="en-US" sz="1600" spc="-1" strike="noStrike">
                  <a:solidFill>
                    <a:srgbClr val="ffff00"/>
                  </a:solidFill>
                  <a:latin typeface="Arial Narrow"/>
                </a:rPr>
                <a:t>Grupos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 Narrow"/>
                </a:rPr>
                <a:t> </a:t>
              </a:r>
              <a:r>
                <a:rPr b="1" lang="en-US" sz="1600" spc="-1" strike="noStrike">
                  <a:solidFill>
                    <a:srgbClr val="ffff00"/>
                  </a:solidFill>
                  <a:latin typeface="Arial Narrow"/>
                </a:rPr>
                <a:t>investigación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54480" y="1571760"/>
              <a:ext cx="0" cy="380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86400" y="1557360"/>
              <a:ext cx="0" cy="380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9280" y="1571760"/>
              <a:ext cx="0" cy="380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22720" y="2362320"/>
              <a:ext cx="188424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 Narrow"/>
                </a:rPr>
                <a:t>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32400" y="2362320"/>
              <a:ext cx="188424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 Narrow"/>
                </a:rPr>
                <a:t>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12040" y="2286000"/>
              <a:ext cx="1581120" cy="9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 Narro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redispuestos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a  ceder a sus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onocimi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65320" y="3200400"/>
              <a:ext cx="2417760" cy="105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 Narro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Impulsar la TRI  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favorecer la obtención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e resultado aplicabl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55880" y="3200400"/>
              <a:ext cx="142740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efinidas 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oher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08720" y="3200400"/>
              <a:ext cx="18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Narro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Organizada e Integrada en el CP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59760" y="3200400"/>
              <a:ext cx="18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Narro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Interesados 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estimul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12680" y="4191120"/>
              <a:ext cx="2417760" cy="13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Mejorar el conoci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a comunicación entre los diferentes elementos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el 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79920" y="4191120"/>
              <a:ext cx="16556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Equilibradas y Consolida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45080" y="4286160"/>
              <a:ext cx="1760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Narro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on capacidad de promoción 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egui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13480" y="4191120"/>
              <a:ext cx="165600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Integrados e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el tejido del 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968400" y="0"/>
            <a:ext cx="8175600" cy="945720"/>
            <a:chOff x="968400" y="0"/>
            <a:chExt cx="8175600" cy="945720"/>
          </a:xfrm>
        </p:grpSpPr>
        <p:sp>
          <p:nvSpPr>
            <p:cNvPr id="174" name=""/>
            <p:cNvSpPr/>
            <p:nvPr/>
          </p:nvSpPr>
          <p:spPr>
            <a:xfrm>
              <a:off x="968400" y="0"/>
              <a:ext cx="817560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Arial Narrow"/>
                </a:rPr>
                <a:t>  </a:t>
              </a:r>
              <a:r>
                <a:rPr b="1" lang="en-US" sz="3200" spc="-1" strike="noStrike">
                  <a:solidFill>
                    <a:srgbClr val="cc6600"/>
                  </a:solidFill>
                  <a:latin typeface="Arial Narrow"/>
                </a:rPr>
                <a:t>M</a:t>
              </a:r>
              <a:r>
                <a:rPr b="1" lang="en-US" sz="2800" spc="-1" strike="noStrike">
                  <a:solidFill>
                    <a:srgbClr val="cc6600"/>
                  </a:solidFill>
                  <a:latin typeface="Arial Narrow"/>
                </a:rPr>
                <a:t>ECANISMOS OPERATIVOS  DE INTERRELACIÓN </a:t>
              </a:r>
              <a:r>
                <a:rPr b="1" lang="en-US" sz="2400" spc="-1" strike="noStrike">
                  <a:solidFill>
                    <a:srgbClr val="cc6600"/>
                  </a:solidFill>
                  <a:latin typeface="Arial Narrow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6600"/>
                  </a:solidFill>
                  <a:latin typeface="Arial Narrow"/>
                </a:rPr>
                <a:t>REQUISITOS A CUMPLIR POR EL C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98600" y="541440"/>
              <a:ext cx="7577280" cy="0"/>
            </a:xfrm>
            <a:prstGeom prst="line">
              <a:avLst/>
            </a:prstGeom>
            <a:ln w="475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6600"/>
                </a:solidFill>
                <a:latin typeface="Arial Narrow"/>
              </a:rPr>
              <a:t>Une composante du capital social : </a:t>
            </a:r>
            <a:br>
              <a:rPr sz="3200"/>
            </a:br>
            <a:r>
              <a:rPr b="0" lang="fr-FR" sz="3200" spc="-1" strike="noStrike">
                <a:solidFill>
                  <a:srgbClr val="cc6600"/>
                </a:solidFill>
                <a:latin typeface="Arial Narrow"/>
              </a:rPr>
              <a:t>Enquête OCDE sur la confiance</a:t>
            </a:r>
            <a:br>
              <a:rPr sz="3200"/>
            </a:br>
            <a:r>
              <a:rPr b="0" lang="fr-FR" sz="3200" spc="-1" strike="noStrike">
                <a:solidFill>
                  <a:srgbClr val="cc6600"/>
                </a:solidFill>
                <a:latin typeface="Arial Narrow"/>
              </a:rPr>
              <a:t>                                           B.Mouton</a:t>
            </a:r>
            <a:br>
              <a:rPr sz="3200"/>
            </a:br>
            <a:r>
              <a:rPr b="0" lang="fr-FR" sz="3200" spc="-1" strike="noStrike">
                <a:solidFill>
                  <a:srgbClr val="3333cc"/>
                </a:solidFill>
                <a:latin typeface="Verdana"/>
              </a:rPr>
              <a:t>                                     </a:t>
            </a:r>
            <a:br>
              <a:rPr sz="3200"/>
            </a:br>
            <a:r>
              <a:rPr b="0" lang="fr-FR" sz="3200" spc="-1" strike="noStrike">
                <a:solidFill>
                  <a:srgbClr val="3333cc"/>
                </a:solidFill>
                <a:latin typeface="Verdana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704960"/>
          <a:ext cx="9144000" cy="51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4960"/>
                    <a:ext cx="914400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429000" y="2611440"/>
            <a:ext cx="184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1890720"/>
          <a:ext cx="9144000" cy="49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720"/>
                    <a:ext cx="914400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685800" y="2286000"/>
            <a:ext cx="3552840" cy="914400"/>
          </a:xfrm>
          <a:prstGeom prst="rect">
            <a:avLst/>
          </a:prstGeom>
          <a:solidFill>
            <a:srgbClr val="0066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99"/>
                </a:solidFill>
                <a:latin typeface="Comic Sans MS"/>
              </a:rPr>
              <a:t>INDICE D ’INNO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79600" y="2325600"/>
            <a:ext cx="0" cy="387216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19600" y="5562720"/>
            <a:ext cx="3524400" cy="9903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6600"/>
                </a:solidFill>
                <a:latin typeface="Comic Sans MS"/>
              </a:rPr>
              <a:t>INDICE DE CONF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52920" y="6632640"/>
            <a:ext cx="4591080" cy="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26920" y="189000"/>
            <a:ext cx="8064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6600"/>
                </a:solidFill>
                <a:latin typeface="Arial Narrow"/>
              </a:rPr>
              <a:t>CORRELACIÓN ENTRE LOS INDICES DE INNOVACIÓN Y CONFIANZA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  <a:p>
            <a:pPr algn="ctr">
              <a:lnSpc>
                <a:spcPct val="75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743200" y="2550960"/>
            <a:ext cx="5924520" cy="430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90880" y="3581280"/>
            <a:ext cx="1562040" cy="1162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10120" y="1890720"/>
            <a:ext cx="2438280" cy="14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1341360"/>
            <a:ext cx="8783640" cy="51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Aumentar la capacidad de absorción : nº de titulados en las empre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Practicas y PF en las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Nuevos empresarios: cooperación e internaciona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structuras de interrelación próximas a las empre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Diversificar el tejido industrial (?)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Creación de empresas por titu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Cap.Humano-</a:t>
            </a:r>
            <a:r>
              <a:rPr b="0" lang="es-ES_tradnl" sz="2800" spc="-1" strike="noStrike">
                <a:solidFill>
                  <a:srgbClr val="00cc99"/>
                </a:solidFill>
                <a:latin typeface="Arial Narrow"/>
              </a:rPr>
              <a:t>Cap.Humano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-Human Capital- </a:t>
            </a:r>
            <a:r>
              <a:rPr b="0" lang="es-ES_tradnl" sz="2800" spc="-1" strike="noStrike">
                <a:solidFill>
                  <a:srgbClr val="000099"/>
                </a:solidFill>
                <a:latin typeface="Arial Narrow"/>
              </a:rPr>
              <a:t>Human Capital-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 Capital H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44280"/>
            <a:ext cx="83883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 Narrow"/>
              </a:rPr>
              <a:t>NUEVAS ORIENTACIONES EN LAS PCI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Arial Narrow"/>
              </a:rPr>
              <a:t>CAPACIDADE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Arial Narrow"/>
              </a:rPr>
              <a:t>DEL SI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Arial Narrow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cidir en las empresas</a:t>
            </a: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01080" y="692280"/>
            <a:ext cx="838080" cy="5155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58920" y="1484280"/>
            <a:ext cx="7418520" cy="45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quilibrio entre sus tres misiones o definir su rosa de los vientos: Incidir en la formación e inserción- empleados o líd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oyar la cooperación interna. Masa crít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cretar áreas de especialización y establecer acuerdos globales y a  largo plazo con los otros actores del 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stitucionalización de las relaciones: ¿Todas las relaciones universitarios-particulares/empresas son deseables?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838836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 Narrow"/>
              </a:rPr>
              <a:t>NUEVAS ORIENTACIONES EN LAS PCI</a:t>
            </a:r>
            <a:br>
              <a:rPr sz="2800"/>
            </a:br>
            <a:r>
              <a:rPr b="1" lang="en-US" sz="2800" spc="-1" strike="noStrike">
                <a:solidFill>
                  <a:srgbClr val="cc6600"/>
                </a:solidFill>
                <a:latin typeface="Arial Narrow"/>
              </a:rPr>
              <a:t>CAPACIDADES DEL SI</a:t>
            </a:r>
            <a:r>
              <a:rPr b="1" lang="en-US" sz="2800" spc="-1" strike="noStrike">
                <a:solidFill>
                  <a:srgbClr val="33cc33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Arial Narrow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pensar el papel de las  Universidades en el desarrollo del Entorno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95" name=""/>
          <p:cNvSpPr/>
          <p:nvPr/>
        </p:nvSpPr>
        <p:spPr>
          <a:xfrm>
            <a:off x="7667640" y="907920"/>
            <a:ext cx="838080" cy="5155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14400" y="2189160"/>
            <a:ext cx="82296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sarrollo de una Cultura de la Interr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mento y eficacia de las Estructuras de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rrelación para crear un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fundización en las Red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na región de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0"/>
            <a:ext cx="838836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6600"/>
                </a:solidFill>
                <a:latin typeface="Arial Narrow"/>
              </a:rPr>
              <a:t>NUEVAS ORIENTACIONES EN LAS PCI.</a:t>
            </a:r>
            <a:r>
              <a:rPr b="1" lang="es-ES" sz="2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cc6600"/>
                </a:solidFill>
                <a:latin typeface="Arial Narrow"/>
              </a:rPr>
              <a:t>E</a:t>
            </a:r>
            <a:r>
              <a:rPr b="1" lang="es-ES_tradnl" sz="2800" spc="-1" strike="noStrike">
                <a:solidFill>
                  <a:srgbClr val="cc6600"/>
                </a:solidFill>
                <a:latin typeface="Arial Narrow"/>
              </a:rPr>
              <a:t>STRATEGIA DE INNOVACION: 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Difusión, aprendizaje y concertación de Instituciones</a:t>
            </a:r>
            <a:r>
              <a:rPr b="1" lang="es-ES_tradnl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01080" y="1184400"/>
            <a:ext cx="838080" cy="5155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51640" y="4314960"/>
            <a:ext cx="914400" cy="266400"/>
          </a:xfrm>
          <a:prstGeom prst="rightArrow">
            <a:avLst>
              <a:gd name="adj1" fmla="val 50000"/>
              <a:gd name="adj2" fmla="val 8581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30492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 Narrow"/>
              </a:rPr>
              <a:t>LA REGIÓN QUE APRE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2997360"/>
            <a:ext cx="81648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l desarrollo de capacidades colectivas y el trabajo en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rendizaje acumulativo y a través de las interrelaciones basado en la cooperación de los actores del S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pital social e institu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534520" y="304920"/>
            <a:ext cx="3808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05920" y="533520"/>
            <a:ext cx="306360" cy="2934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458200" y="685800"/>
            <a:ext cx="255600" cy="255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13716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l espacio donde tiene lugar un proces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ción entre diferentes actores del 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 el objeto de favorec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610480" y="609480"/>
            <a:ext cx="230400" cy="23040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6172200"/>
            <a:ext cx="244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Arial"/>
              </a:rPr>
              <a:t>* M. Landabaso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260280"/>
            <a:ext cx="84596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6600"/>
                </a:solidFill>
                <a:latin typeface="Arial Narrow"/>
              </a:rPr>
              <a:t>Investigación, innovación, capacidad de absorción: conceptos ambigu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1773360"/>
            <a:ext cx="83170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¿Resultados versus actividad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vestigación básica, aplicada, a largo o corto  plazo, I+D+i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novación, innovación tecnológica versus social, industrial o de servicios, grados, continuidad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¿Región, empresas, universidades, instituciones política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95640" y="1413000"/>
            <a:ext cx="5257800" cy="504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1159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 Narrow"/>
              </a:rPr>
              <a:t>“</a:t>
            </a:r>
            <a:r>
              <a:rPr b="1" lang="en-US" sz="3200" spc="-1" strike="noStrike">
                <a:solidFill>
                  <a:srgbClr val="cc6600"/>
                </a:solidFill>
                <a:latin typeface="Arial Narrow"/>
              </a:rPr>
              <a:t>APRENDER A INNOVAR CONJUNTAMEN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1582920" cy="1106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1368360" cy="830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732720" y="3429000"/>
            <a:ext cx="996840" cy="1008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651640" y="5445000"/>
            <a:ext cx="1366560" cy="771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1692360" y="3429000"/>
            <a:ext cx="1008000" cy="949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274920" y="3141720"/>
            <a:ext cx="324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lo Costeño de innovación en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6"/>
          <a:srcRect l="42224" t="79763" r="38267" b="14481"/>
          <a:stretch/>
        </p:blipFill>
        <p:spPr>
          <a:xfrm>
            <a:off x="2411280" y="5445000"/>
            <a:ext cx="13669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03280" y="476280"/>
            <a:ext cx="6553440" cy="3988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BIBLIOGRAFIA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76280"/>
            <a:ext cx="8459640" cy="54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Arocena,R. y Sutz,J.(2001): La universidad latinoamericana del futuro. Tendencia-escenarios-Alternativas.Universidad de l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Bush, V.; (1999):” Ciencia, la frontera sin fin. Informe al presidente Roosevelt, julio de 1945”. En Redes, num.14, Universidad Nacional de Quilmes, Buenos 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5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lark, B.J.(1998): Creando Universidades Emprendedoras. Revista Valenciana de Estudios Autonómicos, 21: 373-3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hen, W. y Levinthal, D.A. (1989). 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novation and Learning: the two faces of R&amp;D. Economic Journal. 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ol.99. pp. 569-596</a:t>
            </a: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Comisión Europea (2000c):”2001 Innovations Scoreboard”. SEC(2001)1414. October 2001. Brusel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5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dquist, C. (2006): Systems of innovation: Perspectives and Chalenges en J.Fagerberg, D.C. Mowery y R. R. Nelson eds. “The Oxford Handbook of Innovation”. Oxford University Press. New Yor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5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tzkowitz, H. and Leydesdorff, L. (1996), Emergence of a Triple Helix of University- Industry-Government Relations. Science and Public Policy 23:279-2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just">
              <a:lnSpc>
                <a:spcPct val="15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Etzkowitz, H. and Leydesdorff, L. (199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692360" y="404640"/>
            <a:ext cx="6553080" cy="3988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BIBLIOGRAFIA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4360" y="836640"/>
            <a:ext cx="84596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uropean Comision (2002). “European innovation Scorbord 2003” Luxembur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Fernández de Lucio, I., Conesa, F., Garea, M., Castro, E., Gutierrez, A., Bodegas, M.A. (1996):"Estructuras de interfaz en el Sistema español de Innovación. Su papel en la difusión de tecnología". Centro de Transferencia de Tecnología. Universidad Politécnica de Vale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Fernández I., Gutiérrez A., Jiménez F. y Azagra J.M. (1999). Las debilidades y fortalezas del Sistema Valenciano de Innovación. En Olazaran M. y Gómez M. (eds.) Sistemas Regionales de Innovación. Universidad del País Vasco. 251 – 27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Fernández de Lucio,I., Rojo de la Viesca, J. Castro Martinez, E. (2003). “E. Enfoques de políticas                     regionales de innovación en la Unión Europea”. Academia Europea de Ciencias y Artes. Mad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reeman, C. (1987). Technology Policy and Economic Performance: Lessons from Japan. Pinter Publishers. Lond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E (1996): “España en cifras 1996”, Mad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E (1998-2004), “Encuesta sobre innovación tecnológica en las empresas. 1998-2004”, Madr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E (2000-4):"Estadística sobre las actividades en investigación científica y desarrollo tecnológico (I+D) en 2000)”. Madr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INE (2002): “Indicadores de alta tecnología”. Madrid (</a:t>
            </a:r>
            <a:r>
              <a:rPr b="0" lang="es-ES" sz="1600" spc="-1" strike="noStrike" u="sng">
                <a:solidFill>
                  <a:srgbClr val="ccccff"/>
                </a:solidFill>
                <a:uFillTx/>
                <a:latin typeface="Arial Narrow"/>
                <a:hlinkClick r:id="rId1"/>
              </a:rPr>
              <a:t>www.ine.es</a:t>
            </a: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INE (2002): “DIRCE 2000”. Madr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332000" y="476280"/>
            <a:ext cx="6553080" cy="3988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BIBLIOGRAFIA (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765000"/>
            <a:ext cx="824364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Kline, S.J.,Rosemberg, N. (1986); An Overview of Innovation. En Landau y Rosemberg eds. “The Positive Sum Estrateg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Landabaso, M., Oughton, C., Morgan, K. (2000): “La política regional de innovación en al UE en el inicio del siglo XXI”. Revista Valenciana d’Estudis Autonòmics.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º 30. Pgs. 65-1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rtin,B.,Etzkowitz,H. (2000): The origin and evolution of the university species. SPRU. Working paper series,nº5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lson, R.R. (1993): “National Innovation System: A Comparative Study”. Oxford University Press, Oxfo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OCDE (1993): "Manual de Frascati. La medida de las actividades científicas y tecnológicas". Parí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OCDE (1996):"Principales indicadores de la ciencia y de la tecnología". Parí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OCDE- EUROSTAT (2005): Oslo Manual: Proposed Guidelines for collecting and interpreting Technological Innovation Data.Parí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OCDE (1997): National Innovation Systems”. Par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Olazaran M. y Gómez M. (eds.) (2001).Sistemas Regionales de Innovación. Universidad del País Vasco.Bilba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5562720" y="4724280"/>
            <a:ext cx="621720" cy="806400"/>
            <a:chOff x="5562720" y="4724280"/>
            <a:chExt cx="621720" cy="806400"/>
          </a:xfrm>
        </p:grpSpPr>
        <p:sp>
          <p:nvSpPr>
            <p:cNvPr id="224" name=""/>
            <p:cNvSpPr/>
            <p:nvPr/>
          </p:nvSpPr>
          <p:spPr>
            <a:xfrm>
              <a:off x="5879880" y="5378400"/>
              <a:ext cx="151920" cy="15228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32160" y="5149800"/>
              <a:ext cx="152280" cy="152280"/>
            </a:xfrm>
            <a:prstGeom prst="rect">
              <a:avLst/>
            </a:prstGeom>
            <a:solidFill>
              <a:srgbClr val="ead8aa"/>
            </a:solidFill>
            <a:ln w="9360">
              <a:solidFill>
                <a:srgbClr val="ead8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62720" y="5029200"/>
              <a:ext cx="151920" cy="152280"/>
            </a:xfrm>
            <a:prstGeom prst="rect">
              <a:avLst/>
            </a:prstGeom>
            <a:solidFill>
              <a:srgbClr val="ead8aa"/>
            </a:solidFill>
            <a:ln w="9360">
              <a:solidFill>
                <a:srgbClr val="ead8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14640" y="4876560"/>
              <a:ext cx="152280" cy="152640"/>
            </a:xfrm>
            <a:prstGeom prst="rect">
              <a:avLst/>
            </a:prstGeom>
            <a:solidFill>
              <a:srgbClr val="ead8aa"/>
            </a:solidFill>
            <a:ln w="9360">
              <a:solidFill>
                <a:srgbClr val="ead8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14640" y="5181480"/>
              <a:ext cx="152280" cy="152280"/>
            </a:xfrm>
            <a:prstGeom prst="rect">
              <a:avLst/>
            </a:prstGeom>
            <a:solidFill>
              <a:srgbClr val="d5b053"/>
            </a:solidFill>
            <a:ln w="9360">
              <a:solidFill>
                <a:srgbClr val="d5b0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62720" y="4724280"/>
              <a:ext cx="151920" cy="152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477120" y="4572000"/>
            <a:ext cx="236196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Futura Md BT"/>
              </a:rPr>
              <a:t>INGENIO (CSIC-UP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Futura Md BT"/>
              </a:rPr>
              <a:t>Camino de Vera s/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Futura Md BT"/>
              </a:rPr>
              <a:t>46022 Val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Futura Md BT"/>
              </a:rPr>
              <a:t>Españ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Verdana"/>
              </a:rPr>
              <a:t>www.ingenio.upv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601992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Futura Md BT"/>
              </a:rPr>
              <a:t>Argentina, 10/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57200" y="5112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Futura Md BT"/>
              </a:rPr>
              <a:t>EVOLUCIÓN DE LAS POLÍTICAS DE INNOV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1636560"/>
            <a:ext cx="8459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ento sobre el reforzamiento de la base científico tecnológica -Modelo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ortancia de los sistemas de Innov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 aplicabilidad de los conocimientos y su explo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 Difusión del conocimiento e implantación de instrumentos e infraestructuras para lograr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 capacidad de asimilación de las empre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 cooperación entre los actores y su funcionamiento en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reación y actualización continua del conocimiento y de los procesos de aprendiza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534520" y="304920"/>
            <a:ext cx="3808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533520"/>
            <a:ext cx="306360" cy="2934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458200" y="685800"/>
            <a:ext cx="255600" cy="255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6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1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26920" y="158760"/>
            <a:ext cx="83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 Narrow"/>
              </a:rPr>
              <a:t>DISTRIBUCIÓN PORCENTUAL DEL GASTO EN INNOVACIÓN (2004) </a:t>
            </a:r>
            <a:br>
              <a:rPr sz="2400"/>
            </a:br>
            <a:r>
              <a:rPr b="1" lang="en-US" sz="2400" spc="-1" strike="noStrike">
                <a:solidFill>
                  <a:srgbClr val="cc6600"/>
                </a:solidFill>
                <a:latin typeface="Arial Narrow"/>
              </a:rPr>
              <a:t>EMPRESAS INDUSTRIALES ES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16360" y="551664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INE (2004) y elaboración prop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84720" y="148428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ás de 250 emple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rcRect l="13756" t="10562" r="48645" b="10215"/>
          <a:stretch/>
        </p:blipFill>
        <p:spPr>
          <a:xfrm>
            <a:off x="539640" y="1989000"/>
            <a:ext cx="2951280" cy="3240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rcRect l="65132" t="21124" r="0" b="10215"/>
          <a:stretch/>
        </p:blipFill>
        <p:spPr>
          <a:xfrm>
            <a:off x="3419640" y="2349360"/>
            <a:ext cx="2736720" cy="2808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rcRect l="13591" t="13902" r="48406" b="7967"/>
          <a:stretch/>
        </p:blipFill>
        <p:spPr>
          <a:xfrm>
            <a:off x="6084720" y="1989000"/>
            <a:ext cx="3024360" cy="3240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55640" y="14842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ás de 250 emple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000" y="-171360"/>
            <a:ext cx="8459640" cy="14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6600"/>
                </a:solidFill>
                <a:latin typeface="Futura Md BT"/>
              </a:rPr>
              <a:t>Indicadores de las actividades de innovación tecnológica en las empresas por tamaño (2003)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54200" y="1484280"/>
          <a:ext cx="8418240" cy="495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1484280"/>
                    <a:ext cx="841824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68360" y="1413000"/>
            <a:ext cx="5038920" cy="5038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42920" y="1159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 Narrow"/>
              </a:rPr>
              <a:t>“</a:t>
            </a:r>
            <a:r>
              <a:rPr b="1" lang="en-US" sz="3200" spc="-1" strike="noStrike">
                <a:solidFill>
                  <a:srgbClr val="cc6600"/>
                </a:solidFill>
                <a:latin typeface="Arial Narrow"/>
              </a:rPr>
              <a:t>El CIRCULO de ORO del TERRITORI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58920" y="501336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ital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42920" y="4508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 rot="6646800">
            <a:off x="2123280" y="2636640"/>
            <a:ext cx="2376360" cy="792000"/>
          </a:xfrm>
          <a:custGeom>
            <a:avLst/>
            <a:gdLst>
              <a:gd name="textAreaLeft" fmla="*/ 458640 w 2376360"/>
              <a:gd name="textAreaRight" fmla="*/ 1680120 w 237636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40" hR="21600" stAng="10800000" swAng="5400000"/>
                <a:lnTo>
                  <a:pt x="11101" y="0"/>
                </a:lnTo>
                <a:arcTo wR="8340" hR="21600" stAng="-5400000" swAng="2851119"/>
                <a:lnTo>
                  <a:pt x="21123" y="14400"/>
                </a:lnTo>
                <a:lnTo>
                  <a:pt x="18060" y="21600"/>
                </a:lnTo>
                <a:lnTo>
                  <a:pt x="14042" y="14400"/>
                </a:lnTo>
                <a:lnTo>
                  <a:pt x="16202" y="14400"/>
                </a:lnTo>
                <a:arcTo wR="8340" hR="21600" stAng="-2548881" swAng="-2628643"/>
                <a:lnTo>
                  <a:pt x="9720" y="298"/>
                </a:lnTo>
                <a:arcTo wR="8340" hR="21600" stAng="-5622476" swAng="-5177524"/>
                <a:close/>
              </a:path>
              <a:path fill="darkenLess" w="21600" h="21600">
                <a:moveTo>
                  <a:pt x="0" y="21600"/>
                </a:moveTo>
                <a:arcTo wR="8340" hR="21600" stAng="10800000" swAng="5400000"/>
                <a:lnTo>
                  <a:pt x="8340" y="0"/>
                </a:lnTo>
                <a:arcTo wR="8340" hR="21600" stAng="-5400000" swAng="222476"/>
                <a:lnTo>
                  <a:pt x="9720" y="298"/>
                </a:lnTo>
                <a:arcTo wR="8340" hR="21600" stAng="-5622476" swAng="-5177524"/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6040" y="5013360"/>
            <a:ext cx="16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ital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2000" y="4508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OLIDA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30840" y="112536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ital cul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92360" y="765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3661200">
            <a:off x="5074560" y="2781000"/>
            <a:ext cx="2376720" cy="792360"/>
          </a:xfrm>
          <a:custGeom>
            <a:avLst/>
            <a:gdLst>
              <a:gd name="textAreaLeft" fmla="*/ 458640 w 2376720"/>
              <a:gd name="textAreaRight" fmla="*/ 1680480 w 237672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40" hR="21600" stAng="10800000" swAng="5400000"/>
                <a:lnTo>
                  <a:pt x="11101" y="0"/>
                </a:lnTo>
                <a:arcTo wR="8340" hR="21600" stAng="-5400000" swAng="2851119"/>
                <a:lnTo>
                  <a:pt x="21123" y="14400"/>
                </a:lnTo>
                <a:lnTo>
                  <a:pt x="18060" y="21600"/>
                </a:lnTo>
                <a:lnTo>
                  <a:pt x="14042" y="14400"/>
                </a:lnTo>
                <a:lnTo>
                  <a:pt x="16202" y="14400"/>
                </a:lnTo>
                <a:arcTo wR="8340" hR="21600" stAng="-2548881" swAng="-2628643"/>
                <a:lnTo>
                  <a:pt x="9720" y="298"/>
                </a:lnTo>
                <a:arcTo wR="8340" hR="21600" stAng="-5622476" swAng="-5177524"/>
                <a:close/>
              </a:path>
              <a:path fill="darkenLess" w="21600" h="21600">
                <a:moveTo>
                  <a:pt x="0" y="21600"/>
                </a:moveTo>
                <a:arcTo wR="8340" hR="21600" stAng="10800000" swAng="5400000"/>
                <a:lnTo>
                  <a:pt x="8340" y="0"/>
                </a:lnTo>
                <a:arcTo wR="8340" hR="21600" stAng="-5400000" swAng="222476"/>
                <a:lnTo>
                  <a:pt x="9720" y="298"/>
                </a:lnTo>
                <a:arcTo wR="8340" hR="21600" stAng="-5622476" swAng="-5177524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347280" y="5373720"/>
            <a:ext cx="2592360" cy="792000"/>
          </a:xfrm>
          <a:custGeom>
            <a:avLst/>
            <a:gdLst>
              <a:gd name="textAreaLeft" fmla="*/ 500400 w 2592360"/>
              <a:gd name="textAreaRight" fmla="*/ 1832760 w 259236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40" hR="21600" stAng="10800000" swAng="5400000"/>
                <a:lnTo>
                  <a:pt x="11101" y="0"/>
                </a:lnTo>
                <a:arcTo wR="8340" hR="21600" stAng="-5400000" swAng="2851119"/>
                <a:lnTo>
                  <a:pt x="21123" y="14400"/>
                </a:lnTo>
                <a:lnTo>
                  <a:pt x="18060" y="21600"/>
                </a:lnTo>
                <a:lnTo>
                  <a:pt x="14042" y="14400"/>
                </a:lnTo>
                <a:lnTo>
                  <a:pt x="16202" y="14400"/>
                </a:lnTo>
                <a:arcTo wR="8340" hR="21600" stAng="-2548881" swAng="-2628643"/>
                <a:lnTo>
                  <a:pt x="9720" y="298"/>
                </a:lnTo>
                <a:arcTo wR="8340" hR="21600" stAng="-5622476" swAng="-5177524"/>
                <a:close/>
              </a:path>
              <a:path fill="darkenLess" w="21600" h="21600">
                <a:moveTo>
                  <a:pt x="0" y="21600"/>
                </a:moveTo>
                <a:arcTo wR="8340" hR="21600" stAng="10800000" swAng="5400000"/>
                <a:lnTo>
                  <a:pt x="8340" y="0"/>
                </a:lnTo>
                <a:arcTo wR="8340" hR="21600" stAng="-5400000" swAng="222476"/>
                <a:lnTo>
                  <a:pt x="9720" y="298"/>
                </a:lnTo>
                <a:arcTo wR="8340" hR="21600" stAng="-5622476" swAng="-5177524"/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5805360"/>
            <a:ext cx="1584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uesnier y Lemaignan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 Narrow"/>
              </a:rPr>
              <a:t>INNOVACION Y CIENCIA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640" y="1700280"/>
            <a:ext cx="8496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Dependencia de la Ciencia Básica (1945-1980)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“Ciencia: la frontera sin fin”( V. Bush,194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El tirón del mercado (Schmookler, 196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Una relación compleja (Freeman, 197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 función de los CPI es la creación de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920" indent="-160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Se legitima la intervención pública por la existencia de fall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80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 Narrow"/>
              </a:rPr>
              <a:t>INNOVACION Y CIENCIA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396720" y="2062080"/>
            <a:ext cx="954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• 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Orientación y aplicabilidad de la ciencia (1980-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Modelo interactivo (Kline y Rosemberg, 198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Sistemas de innovación (Freeman, 1987, Lundvall, 1988)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Modo 2 de producción del conocimiento (Gibbons et al,199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Triple hélice (Etzkowitz y Leydesdorff, 199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Universidades emprendedoras (Clark, 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Economía/sociedad del conocimiento/del aprendizaje (Foray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 Narrow"/>
              </a:rPr>
              <a:t>INNOVACION Y CIENCIA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1773360"/>
            <a:ext cx="83170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 función de los CPI es 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 creación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 y difusión del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Futura Md BT"/>
              </a:rPr>
              <a:t>Au</a:t>
            </a:r>
            <a:r>
              <a:rPr b="0" lang="es-ES" sz="2000" spc="-1" strike="noStrike">
                <a:solidFill>
                  <a:srgbClr val="000000"/>
                </a:solidFill>
                <a:latin typeface="Futura Md BT"/>
              </a:rPr>
              <a:t>mento de la I.aplicada y el DT en los CP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utura Md BT"/>
              </a:rPr>
              <a:t>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Futura Md BT"/>
              </a:rPr>
              <a:t>-Crecimiento de la interacción CPI-empresa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utura Md BT"/>
              </a:rPr>
              <a:t>-Creación de las estructuras de interf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utura Md BT"/>
              </a:rPr>
              <a:t>- Se legitiman nuevas modalidades de intervención púb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utura Md BT"/>
              </a:rPr>
              <a:t>Políticas de innovación complementarias a la cientí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utura Md B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utura Md BT"/>
              </a:rPr>
              <a:t>Importancia del terri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 Narrow"/>
              </a:rPr>
              <a:t>INNOVACION Y CIENCIA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981000"/>
            <a:ext cx="87854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Relación indirecta. Equilibrio entre los tipos de investigación. Contexto y territorio (2000-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Una relación indirecta  (Salter y Martin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De la frontera a la transición interminable ( Etzkovitz y Leydesdorff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Contexto y territorio (Arozena y Sutz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.   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La función de los CPI es 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la creación, difusión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 y aplicación del conocimiento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Se añade a los CPI la contribución directa al desarrollo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Creación de Parques Científicos e incubadoras en los C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 Narrow"/>
              </a:rPr>
              <a:t>Evolución de las PI en las Regiones Europ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1676520"/>
            <a:ext cx="496728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pacidades del 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fusión de conocimientos y aprendizaje inter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rendizaje mutuo de actores y concertación de instit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1484280"/>
            <a:ext cx="216000" cy="129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19640" y="1484280"/>
            <a:ext cx="392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Infraestructuras públicas I+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Capacidad innovadora de PY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Diversificación a sectores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2924280"/>
            <a:ext cx="216000" cy="129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38920" y="2781360"/>
            <a:ext cx="32050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Instrumentos de arti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6000" y="4510080"/>
            <a:ext cx="216000" cy="129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2000" y="4654440"/>
            <a:ext cx="32050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Capital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Gobern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00000" y="1525680"/>
            <a:ext cx="800100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buClr>
                <a:srgbClr val="ff6600"/>
              </a:buClr>
              <a:buFont typeface="Monotype Sorts" charset="2"/>
              <a:buChar char=""/>
              <a:tabLst>
                <a:tab algn="l" pos="35568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35568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s-ES" sz="3600" spc="-1" strike="noStrike">
                <a:solidFill>
                  <a:srgbClr val="cc6600"/>
                </a:solidFill>
                <a:latin typeface="Arial Narrow"/>
              </a:rPr>
              <a:t>Caracterización de un territorio de baja capacidad de absor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35568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35568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3200" spc="-1" strike="noStrike">
                <a:solidFill>
                  <a:srgbClr val="cc6600"/>
                </a:solidFill>
                <a:latin typeface="Arial Narrow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4T15:38:11Z</dcterms:created>
  <dc:creator>Ignacio Fernandez de Lucio</dc:creator>
  <dc:description/>
  <dc:language>en-US</dc:language>
  <cp:lastModifiedBy>enmonfe</cp:lastModifiedBy>
  <cp:lastPrinted>2001-07-05T18:53:24Z</cp:lastPrinted>
  <dcterms:modified xsi:type="dcterms:W3CDTF">2007-09-20T10:08:17Z</dcterms:modified>
  <cp:revision>205</cp:revision>
  <dc:subject/>
  <dc:title>Sin título de diapositiva</dc:title>
</cp:coreProperties>
</file>